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-6264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6264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-360" y="-6264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6264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6264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6264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-6264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28954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-6264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-6264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62640"/>
            <a:ext cx="2895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895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SKULL TUTORIAL</a:t>
            </a:r>
            <a:endParaRPr b="1" lang="en-US" sz="4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4495680"/>
            <a:ext cx="3581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Arial"/>
              </a:rPr>
              <a:t>Internal Skull</a:t>
            </a: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94320" y="264960"/>
            <a:ext cx="4305240" cy="5842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378480" y="1001880"/>
            <a:ext cx="555840" cy="1131840"/>
          </a:xfrm>
          <a:custGeom>
            <a:avLst/>
            <a:gdLst/>
            <a:ahLst/>
            <a:rect l="l" t="t" r="r" b="b"/>
            <a:pathLst>
              <a:path w="350" h="713">
                <a:moveTo>
                  <a:pt x="115" y="46"/>
                </a:moveTo>
                <a:cubicBezTo>
                  <a:pt x="98" y="71"/>
                  <a:pt x="80" y="88"/>
                  <a:pt x="60" y="110"/>
                </a:cubicBezTo>
                <a:cubicBezTo>
                  <a:pt x="46" y="153"/>
                  <a:pt x="38" y="196"/>
                  <a:pt x="23" y="238"/>
                </a:cubicBezTo>
                <a:cubicBezTo>
                  <a:pt x="18" y="366"/>
                  <a:pt x="5" y="494"/>
                  <a:pt x="5" y="622"/>
                </a:cubicBezTo>
                <a:cubicBezTo>
                  <a:pt x="5" y="694"/>
                  <a:pt x="0" y="682"/>
                  <a:pt x="33" y="713"/>
                </a:cubicBezTo>
                <a:cubicBezTo>
                  <a:pt x="74" y="699"/>
                  <a:pt x="98" y="672"/>
                  <a:pt x="133" y="649"/>
                </a:cubicBezTo>
                <a:cubicBezTo>
                  <a:pt x="136" y="641"/>
                  <a:pt x="144" y="603"/>
                  <a:pt x="161" y="603"/>
                </a:cubicBezTo>
                <a:cubicBezTo>
                  <a:pt x="170" y="603"/>
                  <a:pt x="172" y="616"/>
                  <a:pt x="179" y="622"/>
                </a:cubicBezTo>
                <a:cubicBezTo>
                  <a:pt x="202" y="641"/>
                  <a:pt x="224" y="658"/>
                  <a:pt x="252" y="667"/>
                </a:cubicBezTo>
                <a:cubicBezTo>
                  <a:pt x="285" y="702"/>
                  <a:pt x="304" y="682"/>
                  <a:pt x="343" y="667"/>
                </a:cubicBezTo>
                <a:cubicBezTo>
                  <a:pt x="314" y="579"/>
                  <a:pt x="336" y="654"/>
                  <a:pt x="325" y="448"/>
                </a:cubicBezTo>
                <a:cubicBezTo>
                  <a:pt x="317" y="304"/>
                  <a:pt x="350" y="0"/>
                  <a:pt x="115" y="46"/>
                </a:cubicBez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304920"/>
            <a:ext cx="3440160" cy="1771560"/>
          </a:xfrm>
          <a:custGeom>
            <a:avLst/>
            <a:gdLst/>
            <a:ahLst/>
            <a:rect l="l" t="t" r="r" b="b"/>
            <a:pathLst>
              <a:path w="2167" h="1116">
                <a:moveTo>
                  <a:pt x="924" y="1116"/>
                </a:moveTo>
                <a:cubicBezTo>
                  <a:pt x="849" y="1096"/>
                  <a:pt x="781" y="1078"/>
                  <a:pt x="704" y="1070"/>
                </a:cubicBezTo>
                <a:cubicBezTo>
                  <a:pt x="616" y="1041"/>
                  <a:pt x="520" y="1064"/>
                  <a:pt x="430" y="1079"/>
                </a:cubicBezTo>
                <a:cubicBezTo>
                  <a:pt x="297" y="1072"/>
                  <a:pt x="181" y="1064"/>
                  <a:pt x="55" y="1024"/>
                </a:cubicBezTo>
                <a:cubicBezTo>
                  <a:pt x="16" y="998"/>
                  <a:pt x="14" y="967"/>
                  <a:pt x="0" y="924"/>
                </a:cubicBezTo>
                <a:cubicBezTo>
                  <a:pt x="3" y="903"/>
                  <a:pt x="1" y="880"/>
                  <a:pt x="9" y="860"/>
                </a:cubicBezTo>
                <a:cubicBezTo>
                  <a:pt x="23" y="824"/>
                  <a:pt x="61" y="791"/>
                  <a:pt x="83" y="759"/>
                </a:cubicBezTo>
                <a:cubicBezTo>
                  <a:pt x="93" y="729"/>
                  <a:pt x="128" y="677"/>
                  <a:pt x="128" y="677"/>
                </a:cubicBezTo>
                <a:cubicBezTo>
                  <a:pt x="160" y="578"/>
                  <a:pt x="109" y="725"/>
                  <a:pt x="156" y="622"/>
                </a:cubicBezTo>
                <a:cubicBezTo>
                  <a:pt x="174" y="581"/>
                  <a:pt x="171" y="551"/>
                  <a:pt x="201" y="521"/>
                </a:cubicBezTo>
                <a:cubicBezTo>
                  <a:pt x="223" y="499"/>
                  <a:pt x="275" y="466"/>
                  <a:pt x="275" y="466"/>
                </a:cubicBezTo>
                <a:cubicBezTo>
                  <a:pt x="289" y="446"/>
                  <a:pt x="295" y="421"/>
                  <a:pt x="311" y="402"/>
                </a:cubicBezTo>
                <a:cubicBezTo>
                  <a:pt x="318" y="393"/>
                  <a:pt x="331" y="391"/>
                  <a:pt x="339" y="384"/>
                </a:cubicBezTo>
                <a:cubicBezTo>
                  <a:pt x="362" y="364"/>
                  <a:pt x="384" y="343"/>
                  <a:pt x="403" y="320"/>
                </a:cubicBezTo>
                <a:cubicBezTo>
                  <a:pt x="419" y="300"/>
                  <a:pt x="419" y="289"/>
                  <a:pt x="439" y="274"/>
                </a:cubicBezTo>
                <a:cubicBezTo>
                  <a:pt x="500" y="228"/>
                  <a:pt x="563" y="190"/>
                  <a:pt x="631" y="156"/>
                </a:cubicBezTo>
                <a:cubicBezTo>
                  <a:pt x="694" y="90"/>
                  <a:pt x="783" y="87"/>
                  <a:pt x="869" y="73"/>
                </a:cubicBezTo>
                <a:cubicBezTo>
                  <a:pt x="944" y="61"/>
                  <a:pt x="1033" y="43"/>
                  <a:pt x="1097" y="0"/>
                </a:cubicBezTo>
                <a:cubicBezTo>
                  <a:pt x="1220" y="9"/>
                  <a:pt x="1338" y="19"/>
                  <a:pt x="1454" y="64"/>
                </a:cubicBezTo>
                <a:cubicBezTo>
                  <a:pt x="1487" y="115"/>
                  <a:pt x="1453" y="76"/>
                  <a:pt x="1500" y="101"/>
                </a:cubicBezTo>
                <a:cubicBezTo>
                  <a:pt x="1519" y="111"/>
                  <a:pt x="1537" y="125"/>
                  <a:pt x="1555" y="137"/>
                </a:cubicBezTo>
                <a:cubicBezTo>
                  <a:pt x="1571" y="147"/>
                  <a:pt x="1592" y="148"/>
                  <a:pt x="1609" y="156"/>
                </a:cubicBezTo>
                <a:cubicBezTo>
                  <a:pt x="1622" y="161"/>
                  <a:pt x="1633" y="169"/>
                  <a:pt x="1646" y="174"/>
                </a:cubicBezTo>
                <a:cubicBezTo>
                  <a:pt x="1664" y="181"/>
                  <a:pt x="1701" y="192"/>
                  <a:pt x="1701" y="192"/>
                </a:cubicBezTo>
                <a:cubicBezTo>
                  <a:pt x="1738" y="217"/>
                  <a:pt x="1777" y="251"/>
                  <a:pt x="1820" y="265"/>
                </a:cubicBezTo>
                <a:cubicBezTo>
                  <a:pt x="1845" y="291"/>
                  <a:pt x="1848" y="310"/>
                  <a:pt x="1865" y="338"/>
                </a:cubicBezTo>
                <a:cubicBezTo>
                  <a:pt x="1875" y="355"/>
                  <a:pt x="1891" y="368"/>
                  <a:pt x="1902" y="384"/>
                </a:cubicBezTo>
                <a:cubicBezTo>
                  <a:pt x="1905" y="393"/>
                  <a:pt x="1906" y="403"/>
                  <a:pt x="1911" y="412"/>
                </a:cubicBezTo>
                <a:cubicBezTo>
                  <a:pt x="1922" y="431"/>
                  <a:pt x="1948" y="466"/>
                  <a:pt x="1948" y="466"/>
                </a:cubicBezTo>
                <a:cubicBezTo>
                  <a:pt x="1961" y="507"/>
                  <a:pt x="1988" y="532"/>
                  <a:pt x="2012" y="567"/>
                </a:cubicBezTo>
                <a:cubicBezTo>
                  <a:pt x="2015" y="576"/>
                  <a:pt x="2016" y="586"/>
                  <a:pt x="2021" y="594"/>
                </a:cubicBezTo>
                <a:cubicBezTo>
                  <a:pt x="2025" y="602"/>
                  <a:pt x="2035" y="605"/>
                  <a:pt x="2039" y="613"/>
                </a:cubicBezTo>
                <a:cubicBezTo>
                  <a:pt x="2078" y="694"/>
                  <a:pt x="2035" y="647"/>
                  <a:pt x="2076" y="686"/>
                </a:cubicBezTo>
                <a:cubicBezTo>
                  <a:pt x="2091" y="732"/>
                  <a:pt x="2139" y="780"/>
                  <a:pt x="2167" y="823"/>
                </a:cubicBezTo>
                <a:cubicBezTo>
                  <a:pt x="2159" y="874"/>
                  <a:pt x="2162" y="898"/>
                  <a:pt x="2112" y="914"/>
                </a:cubicBezTo>
                <a:cubicBezTo>
                  <a:pt x="2059" y="970"/>
                  <a:pt x="1976" y="947"/>
                  <a:pt x="1902" y="951"/>
                </a:cubicBezTo>
                <a:cubicBezTo>
                  <a:pt x="1839" y="966"/>
                  <a:pt x="1774" y="971"/>
                  <a:pt x="1710" y="978"/>
                </a:cubicBezTo>
                <a:cubicBezTo>
                  <a:pt x="1576" y="1028"/>
                  <a:pt x="1502" y="1029"/>
                  <a:pt x="1353" y="1042"/>
                </a:cubicBezTo>
                <a:cubicBezTo>
                  <a:pt x="1335" y="1048"/>
                  <a:pt x="1299" y="1061"/>
                  <a:pt x="1299" y="1061"/>
                </a:cubicBezTo>
                <a:cubicBezTo>
                  <a:pt x="1292" y="1016"/>
                  <a:pt x="1285" y="976"/>
                  <a:pt x="1271" y="933"/>
                </a:cubicBezTo>
                <a:cubicBezTo>
                  <a:pt x="1265" y="733"/>
                  <a:pt x="1289" y="609"/>
                  <a:pt x="1189" y="457"/>
                </a:cubicBezTo>
                <a:cubicBezTo>
                  <a:pt x="1183" y="448"/>
                  <a:pt x="1104" y="440"/>
                  <a:pt x="1097" y="439"/>
                </a:cubicBezTo>
                <a:cubicBezTo>
                  <a:pt x="1088" y="436"/>
                  <a:pt x="1079" y="426"/>
                  <a:pt x="1070" y="430"/>
                </a:cubicBezTo>
                <a:cubicBezTo>
                  <a:pt x="1051" y="437"/>
                  <a:pt x="1051" y="472"/>
                  <a:pt x="1043" y="485"/>
                </a:cubicBezTo>
                <a:cubicBezTo>
                  <a:pt x="1030" y="506"/>
                  <a:pt x="1006" y="530"/>
                  <a:pt x="988" y="549"/>
                </a:cubicBezTo>
                <a:cubicBezTo>
                  <a:pt x="964" y="618"/>
                  <a:pt x="959" y="688"/>
                  <a:pt x="942" y="759"/>
                </a:cubicBezTo>
                <a:cubicBezTo>
                  <a:pt x="933" y="1086"/>
                  <a:pt x="953" y="968"/>
                  <a:pt x="924" y="1116"/>
                </a:cubicBezTo>
                <a:close/>
              </a:path>
            </a:pathLst>
          </a:custGeom>
          <a:solidFill>
            <a:srgbClr val="ff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27480" y="1712880"/>
            <a:ext cx="3276720" cy="1523880"/>
          </a:xfrm>
          <a:custGeom>
            <a:avLst/>
            <a:gdLst/>
            <a:ahLst/>
            <a:rect l="l" t="t" r="r" b="b"/>
            <a:pathLst>
              <a:path w="2064" h="960">
                <a:moveTo>
                  <a:pt x="0" y="192"/>
                </a:moveTo>
                <a:lnTo>
                  <a:pt x="96" y="432"/>
                </a:lnTo>
                <a:lnTo>
                  <a:pt x="288" y="768"/>
                </a:lnTo>
                <a:lnTo>
                  <a:pt x="432" y="912"/>
                </a:lnTo>
                <a:lnTo>
                  <a:pt x="576" y="960"/>
                </a:lnTo>
                <a:lnTo>
                  <a:pt x="768" y="768"/>
                </a:lnTo>
                <a:lnTo>
                  <a:pt x="1104" y="768"/>
                </a:lnTo>
                <a:lnTo>
                  <a:pt x="1344" y="864"/>
                </a:lnTo>
                <a:lnTo>
                  <a:pt x="1632" y="912"/>
                </a:lnTo>
                <a:lnTo>
                  <a:pt x="1824" y="720"/>
                </a:lnTo>
                <a:lnTo>
                  <a:pt x="1920" y="384"/>
                </a:lnTo>
                <a:lnTo>
                  <a:pt x="2064" y="96"/>
                </a:lnTo>
                <a:lnTo>
                  <a:pt x="2064" y="0"/>
                </a:lnTo>
                <a:lnTo>
                  <a:pt x="1440" y="96"/>
                </a:lnTo>
                <a:lnTo>
                  <a:pt x="1104" y="192"/>
                </a:lnTo>
                <a:lnTo>
                  <a:pt x="1056" y="240"/>
                </a:lnTo>
                <a:lnTo>
                  <a:pt x="912" y="144"/>
                </a:lnTo>
                <a:lnTo>
                  <a:pt x="864" y="288"/>
                </a:lnTo>
                <a:lnTo>
                  <a:pt x="768" y="240"/>
                </a:lnTo>
                <a:lnTo>
                  <a:pt x="43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246400"/>
            <a:ext cx="1752480" cy="2438280"/>
          </a:xfrm>
          <a:custGeom>
            <a:avLst/>
            <a:gdLst/>
            <a:ahLst/>
            <a:rect l="l" t="t" r="r" b="b"/>
            <a:pathLst>
              <a:path w="1104" h="1536">
                <a:moveTo>
                  <a:pt x="144" y="0"/>
                </a:moveTo>
                <a:lnTo>
                  <a:pt x="384" y="96"/>
                </a:lnTo>
                <a:lnTo>
                  <a:pt x="624" y="480"/>
                </a:lnTo>
                <a:lnTo>
                  <a:pt x="816" y="624"/>
                </a:lnTo>
                <a:lnTo>
                  <a:pt x="1056" y="528"/>
                </a:lnTo>
                <a:lnTo>
                  <a:pt x="1104" y="480"/>
                </a:lnTo>
                <a:lnTo>
                  <a:pt x="1008" y="768"/>
                </a:lnTo>
                <a:lnTo>
                  <a:pt x="816" y="1008"/>
                </a:lnTo>
                <a:lnTo>
                  <a:pt x="720" y="1152"/>
                </a:lnTo>
                <a:lnTo>
                  <a:pt x="672" y="1440"/>
                </a:lnTo>
                <a:lnTo>
                  <a:pt x="624" y="1536"/>
                </a:lnTo>
                <a:lnTo>
                  <a:pt x="528" y="1536"/>
                </a:lnTo>
                <a:lnTo>
                  <a:pt x="384" y="1536"/>
                </a:lnTo>
                <a:lnTo>
                  <a:pt x="288" y="1536"/>
                </a:lnTo>
                <a:lnTo>
                  <a:pt x="192" y="1536"/>
                </a:lnTo>
                <a:lnTo>
                  <a:pt x="96" y="1440"/>
                </a:lnTo>
                <a:lnTo>
                  <a:pt x="0" y="1200"/>
                </a:lnTo>
                <a:lnTo>
                  <a:pt x="0" y="960"/>
                </a:lnTo>
                <a:lnTo>
                  <a:pt x="0" y="768"/>
                </a:lnTo>
                <a:lnTo>
                  <a:pt x="0" y="624"/>
                </a:lnTo>
                <a:lnTo>
                  <a:pt x="0" y="528"/>
                </a:lnTo>
                <a:lnTo>
                  <a:pt x="0" y="384"/>
                </a:lnTo>
                <a:lnTo>
                  <a:pt x="96" y="96"/>
                </a:lnTo>
                <a:lnTo>
                  <a:pt x="144" y="0"/>
                </a:lnTo>
                <a:close/>
              </a:path>
            </a:pathLst>
          </a:cu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3008160"/>
            <a:ext cx="3886200" cy="3048120"/>
          </a:xfrm>
          <a:custGeom>
            <a:avLst/>
            <a:gdLst/>
            <a:ahLst/>
            <a:rect l="l" t="t" r="r" b="b"/>
            <a:pathLst>
              <a:path w="2448" h="1920">
                <a:moveTo>
                  <a:pt x="1056" y="0"/>
                </a:moveTo>
                <a:lnTo>
                  <a:pt x="864" y="384"/>
                </a:lnTo>
                <a:lnTo>
                  <a:pt x="672" y="624"/>
                </a:lnTo>
                <a:lnTo>
                  <a:pt x="576" y="1056"/>
                </a:lnTo>
                <a:lnTo>
                  <a:pt x="192" y="1056"/>
                </a:lnTo>
                <a:lnTo>
                  <a:pt x="0" y="1056"/>
                </a:lnTo>
                <a:lnTo>
                  <a:pt x="240" y="1440"/>
                </a:lnTo>
                <a:lnTo>
                  <a:pt x="720" y="1824"/>
                </a:lnTo>
                <a:lnTo>
                  <a:pt x="1104" y="1920"/>
                </a:lnTo>
                <a:lnTo>
                  <a:pt x="1584" y="1824"/>
                </a:lnTo>
                <a:lnTo>
                  <a:pt x="1872" y="1728"/>
                </a:lnTo>
                <a:lnTo>
                  <a:pt x="2160" y="1440"/>
                </a:lnTo>
                <a:lnTo>
                  <a:pt x="2448" y="1056"/>
                </a:lnTo>
                <a:lnTo>
                  <a:pt x="2256" y="960"/>
                </a:lnTo>
                <a:lnTo>
                  <a:pt x="2112" y="912"/>
                </a:lnTo>
                <a:lnTo>
                  <a:pt x="2064" y="1008"/>
                </a:lnTo>
                <a:lnTo>
                  <a:pt x="1920" y="528"/>
                </a:lnTo>
                <a:lnTo>
                  <a:pt x="1680" y="432"/>
                </a:lnTo>
                <a:lnTo>
                  <a:pt x="1440" y="144"/>
                </a:lnTo>
                <a:lnTo>
                  <a:pt x="1440" y="0"/>
                </a:lnTo>
                <a:lnTo>
                  <a:pt x="1056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19680" y="68580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Frontal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680" y="12952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Ethmoid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3720" y="21337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Sphenoid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20400" y="289548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Temporal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2640" y="380988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Occipital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0" t="5219" r="0" b="0"/>
          <a:stretch/>
        </p:blipFill>
        <p:spPr>
          <a:xfrm>
            <a:off x="1981080" y="152280"/>
            <a:ext cx="5270760" cy="5537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858000" y="45720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crista ga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38088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cribriborm 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219320"/>
            <a:ext cx="759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1219320"/>
            <a:ext cx="1526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1219320"/>
            <a:ext cx="1526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8320" y="198108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213372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1523880"/>
            <a:ext cx="1371600" cy="83844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192"/>
                </a:moveTo>
                <a:lnTo>
                  <a:pt x="864" y="0"/>
                </a:lnTo>
                <a:lnTo>
                  <a:pt x="816" y="96"/>
                </a:lnTo>
                <a:lnTo>
                  <a:pt x="624" y="144"/>
                </a:lnTo>
                <a:lnTo>
                  <a:pt x="480" y="192"/>
                </a:lnTo>
                <a:lnTo>
                  <a:pt x="336" y="240"/>
                </a:lnTo>
                <a:lnTo>
                  <a:pt x="240" y="384"/>
                </a:lnTo>
                <a:lnTo>
                  <a:pt x="96" y="528"/>
                </a:lnTo>
                <a:lnTo>
                  <a:pt x="96" y="432"/>
                </a:lnTo>
                <a:lnTo>
                  <a:pt x="0" y="192"/>
                </a:lnTo>
                <a:close/>
              </a:path>
            </a:pathLst>
          </a:custGeom>
          <a:solidFill>
            <a:srgbClr val="ff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2057400"/>
            <a:ext cx="457200" cy="457200"/>
          </a:xfrm>
          <a:prstGeom prst="ellipse">
            <a:avLst/>
          </a:prstGeom>
          <a:solidFill>
            <a:srgbClr val="ff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436600">
            <a:off x="3657600" y="2971440"/>
            <a:ext cx="3808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9803000">
            <a:off x="5226120" y="2964960"/>
            <a:ext cx="3808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9803000">
            <a:off x="5181480" y="3428640"/>
            <a:ext cx="381240" cy="53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1797000">
            <a:off x="3504600" y="3429000"/>
            <a:ext cx="380880" cy="53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1828800"/>
            <a:ext cx="99036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576" y="288"/>
                </a:moveTo>
                <a:lnTo>
                  <a:pt x="288" y="48"/>
                </a:lnTo>
                <a:lnTo>
                  <a:pt x="0" y="0"/>
                </a:lnTo>
                <a:lnTo>
                  <a:pt x="0" y="288"/>
                </a:lnTo>
                <a:lnTo>
                  <a:pt x="144" y="576"/>
                </a:lnTo>
                <a:lnTo>
                  <a:pt x="336" y="672"/>
                </a:lnTo>
                <a:lnTo>
                  <a:pt x="576" y="528"/>
                </a:lnTo>
                <a:lnTo>
                  <a:pt x="576" y="288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960" y="16002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greater w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11000" y="11430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lesser w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63640" y="29718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optic ca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80" y="342900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sella turc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0" y="42670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jugular fora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95480" y="5257440"/>
            <a:ext cx="320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Arial"/>
              </a:rPr>
              <a:t>Internal Skull</a:t>
            </a: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685800"/>
            <a:ext cx="16002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495680" y="685800"/>
            <a:ext cx="24386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028840" y="1371600"/>
            <a:ext cx="205740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800240" y="2133360"/>
            <a:ext cx="243828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1905120"/>
            <a:ext cx="12193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905120" y="2286000"/>
            <a:ext cx="251460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438280" y="3885840"/>
            <a:ext cx="106704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057400" y="0"/>
            <a:ext cx="4915080" cy="5715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06000" y="449568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Hyoid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54160" y="3657600"/>
            <a:ext cx="182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Temporo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mandib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Joint (TM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92960" y="1828800"/>
            <a:ext cx="143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exter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acou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me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895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Arial"/>
              </a:rPr>
              <a:t>Hyoid +</a:t>
            </a: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133720" y="4647960"/>
            <a:ext cx="175248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4952520" y="1981080"/>
            <a:ext cx="1676520" cy="198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638320" y="2133360"/>
            <a:ext cx="175284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209680" y="449568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439884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ygom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40280" y="546588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xi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95120" y="259092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he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2080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o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715000" y="2971800"/>
            <a:ext cx="1676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69280" y="257004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cri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410080" y="1371240"/>
            <a:ext cx="266724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87320" y="76212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m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15364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462276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Arial"/>
              </a:rPr>
              <a:t>Anterior Skull</a:t>
            </a: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371600"/>
            <a:ext cx="1447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1430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frontal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752480"/>
            <a:ext cx="199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0" y="289548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zygomatic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200400"/>
            <a:ext cx="9144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3657600"/>
            <a:ext cx="15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maxillary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5943600" y="4038120"/>
            <a:ext cx="175248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5029200"/>
            <a:ext cx="13716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6000" y="472428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mental fora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6280" y="51055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mand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248160" y="541008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380880"/>
            <a:ext cx="3487680" cy="1990800"/>
          </a:xfrm>
          <a:custGeom>
            <a:avLst/>
            <a:gdLst/>
            <a:ahLst/>
            <a:rect l="l" t="t" r="r" b="b"/>
            <a:pathLst>
              <a:path w="2197" h="1254">
                <a:moveTo>
                  <a:pt x="595" y="0"/>
                </a:moveTo>
                <a:cubicBezTo>
                  <a:pt x="586" y="6"/>
                  <a:pt x="577" y="13"/>
                  <a:pt x="567" y="18"/>
                </a:cubicBezTo>
                <a:cubicBezTo>
                  <a:pt x="558" y="22"/>
                  <a:pt x="548" y="22"/>
                  <a:pt x="540" y="27"/>
                </a:cubicBezTo>
                <a:cubicBezTo>
                  <a:pt x="477" y="62"/>
                  <a:pt x="413" y="109"/>
                  <a:pt x="357" y="155"/>
                </a:cubicBezTo>
                <a:cubicBezTo>
                  <a:pt x="316" y="189"/>
                  <a:pt x="364" y="158"/>
                  <a:pt x="320" y="201"/>
                </a:cubicBezTo>
                <a:cubicBezTo>
                  <a:pt x="312" y="209"/>
                  <a:pt x="301" y="212"/>
                  <a:pt x="293" y="219"/>
                </a:cubicBezTo>
                <a:cubicBezTo>
                  <a:pt x="228" y="276"/>
                  <a:pt x="273" y="256"/>
                  <a:pt x="220" y="274"/>
                </a:cubicBezTo>
                <a:cubicBezTo>
                  <a:pt x="181" y="334"/>
                  <a:pt x="132" y="388"/>
                  <a:pt x="92" y="448"/>
                </a:cubicBezTo>
                <a:cubicBezTo>
                  <a:pt x="86" y="457"/>
                  <a:pt x="73" y="459"/>
                  <a:pt x="64" y="466"/>
                </a:cubicBezTo>
                <a:cubicBezTo>
                  <a:pt x="32" y="492"/>
                  <a:pt x="13" y="529"/>
                  <a:pt x="0" y="567"/>
                </a:cubicBezTo>
                <a:cubicBezTo>
                  <a:pt x="3" y="576"/>
                  <a:pt x="5" y="586"/>
                  <a:pt x="10" y="594"/>
                </a:cubicBezTo>
                <a:cubicBezTo>
                  <a:pt x="15" y="601"/>
                  <a:pt x="24" y="605"/>
                  <a:pt x="28" y="613"/>
                </a:cubicBezTo>
                <a:cubicBezTo>
                  <a:pt x="36" y="630"/>
                  <a:pt x="40" y="649"/>
                  <a:pt x="46" y="667"/>
                </a:cubicBezTo>
                <a:cubicBezTo>
                  <a:pt x="50" y="678"/>
                  <a:pt x="58" y="686"/>
                  <a:pt x="64" y="695"/>
                </a:cubicBezTo>
                <a:cubicBezTo>
                  <a:pt x="74" y="836"/>
                  <a:pt x="91" y="893"/>
                  <a:pt x="55" y="1033"/>
                </a:cubicBezTo>
                <a:cubicBezTo>
                  <a:pt x="44" y="1073"/>
                  <a:pt x="37" y="1105"/>
                  <a:pt x="10" y="1134"/>
                </a:cubicBezTo>
                <a:cubicBezTo>
                  <a:pt x="7" y="1143"/>
                  <a:pt x="0" y="1151"/>
                  <a:pt x="0" y="1161"/>
                </a:cubicBezTo>
                <a:cubicBezTo>
                  <a:pt x="0" y="1254"/>
                  <a:pt x="34" y="1228"/>
                  <a:pt x="101" y="1253"/>
                </a:cubicBezTo>
                <a:cubicBezTo>
                  <a:pt x="135" y="1217"/>
                  <a:pt x="182" y="1215"/>
                  <a:pt x="229" y="1207"/>
                </a:cubicBezTo>
                <a:cubicBezTo>
                  <a:pt x="357" y="1164"/>
                  <a:pt x="498" y="1150"/>
                  <a:pt x="631" y="1143"/>
                </a:cubicBezTo>
                <a:cubicBezTo>
                  <a:pt x="745" y="1150"/>
                  <a:pt x="877" y="1170"/>
                  <a:pt x="988" y="1134"/>
                </a:cubicBezTo>
                <a:cubicBezTo>
                  <a:pt x="994" y="1128"/>
                  <a:pt x="998" y="1119"/>
                  <a:pt x="1006" y="1115"/>
                </a:cubicBezTo>
                <a:cubicBezTo>
                  <a:pt x="1023" y="1106"/>
                  <a:pt x="1061" y="1097"/>
                  <a:pt x="1061" y="1097"/>
                </a:cubicBezTo>
                <a:cubicBezTo>
                  <a:pt x="1085" y="1061"/>
                  <a:pt x="1102" y="1062"/>
                  <a:pt x="1143" y="1051"/>
                </a:cubicBezTo>
                <a:cubicBezTo>
                  <a:pt x="1171" y="1057"/>
                  <a:pt x="1201" y="1056"/>
                  <a:pt x="1226" y="1070"/>
                </a:cubicBezTo>
                <a:cubicBezTo>
                  <a:pt x="1324" y="1125"/>
                  <a:pt x="1238" y="1111"/>
                  <a:pt x="1280" y="1106"/>
                </a:cubicBezTo>
                <a:lnTo>
                  <a:pt x="1429" y="1136"/>
                </a:lnTo>
                <a:cubicBezTo>
                  <a:pt x="1682" y="1085"/>
                  <a:pt x="1587" y="1088"/>
                  <a:pt x="1710" y="1088"/>
                </a:cubicBezTo>
                <a:cubicBezTo>
                  <a:pt x="1776" y="1104"/>
                  <a:pt x="1842" y="1123"/>
                  <a:pt x="1909" y="1136"/>
                </a:cubicBezTo>
                <a:cubicBezTo>
                  <a:pt x="1941" y="1142"/>
                  <a:pt x="1959" y="1127"/>
                  <a:pt x="1984" y="1152"/>
                </a:cubicBezTo>
                <a:lnTo>
                  <a:pt x="2197" y="1184"/>
                </a:lnTo>
                <a:cubicBezTo>
                  <a:pt x="2181" y="1104"/>
                  <a:pt x="2165" y="1056"/>
                  <a:pt x="2149" y="944"/>
                </a:cubicBezTo>
                <a:lnTo>
                  <a:pt x="2101" y="512"/>
                </a:lnTo>
                <a:lnTo>
                  <a:pt x="1957" y="368"/>
                </a:lnTo>
                <a:lnTo>
                  <a:pt x="1909" y="320"/>
                </a:lnTo>
                <a:lnTo>
                  <a:pt x="1813" y="224"/>
                </a:lnTo>
                <a:lnTo>
                  <a:pt x="1717" y="176"/>
                </a:lnTo>
                <a:lnTo>
                  <a:pt x="1669" y="128"/>
                </a:lnTo>
                <a:lnTo>
                  <a:pt x="1621" y="80"/>
                </a:lnTo>
                <a:lnTo>
                  <a:pt x="1525" y="32"/>
                </a:lnTo>
                <a:lnTo>
                  <a:pt x="1381" y="32"/>
                </a:lnTo>
                <a:lnTo>
                  <a:pt x="1045" y="32"/>
                </a:lnTo>
                <a:lnTo>
                  <a:pt x="901" y="32"/>
                </a:lnTo>
                <a:lnTo>
                  <a:pt x="661" y="32"/>
                </a:lnTo>
                <a:lnTo>
                  <a:pt x="595" y="0"/>
                </a:lnTo>
                <a:close/>
              </a:path>
            </a:pathLst>
          </a:custGeom>
          <a:solidFill>
            <a:srgbClr val="ff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752480"/>
            <a:ext cx="914400" cy="60984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0" y="0"/>
                </a:moveTo>
                <a:lnTo>
                  <a:pt x="576" y="0"/>
                </a:lnTo>
                <a:lnTo>
                  <a:pt x="528" y="336"/>
                </a:lnTo>
                <a:lnTo>
                  <a:pt x="432" y="336"/>
                </a:lnTo>
                <a:lnTo>
                  <a:pt x="384" y="192"/>
                </a:lnTo>
                <a:lnTo>
                  <a:pt x="240" y="192"/>
                </a:lnTo>
                <a:lnTo>
                  <a:pt x="144" y="288"/>
                </a:lnTo>
                <a:lnTo>
                  <a:pt x="48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2362320"/>
            <a:ext cx="990720" cy="1523880"/>
          </a:xfrm>
          <a:custGeom>
            <a:avLst/>
            <a:gdLst/>
            <a:ahLst/>
            <a:rect l="l" t="t" r="r" b="b"/>
            <a:pathLst>
              <a:path w="576" h="960">
                <a:moveTo>
                  <a:pt x="288" y="0"/>
                </a:moveTo>
                <a:lnTo>
                  <a:pt x="336" y="96"/>
                </a:lnTo>
                <a:lnTo>
                  <a:pt x="384" y="192"/>
                </a:lnTo>
                <a:lnTo>
                  <a:pt x="480" y="240"/>
                </a:lnTo>
                <a:lnTo>
                  <a:pt x="576" y="432"/>
                </a:lnTo>
                <a:lnTo>
                  <a:pt x="528" y="480"/>
                </a:lnTo>
                <a:lnTo>
                  <a:pt x="480" y="576"/>
                </a:lnTo>
                <a:lnTo>
                  <a:pt x="432" y="720"/>
                </a:lnTo>
                <a:lnTo>
                  <a:pt x="288" y="912"/>
                </a:lnTo>
                <a:lnTo>
                  <a:pt x="240" y="960"/>
                </a:lnTo>
                <a:lnTo>
                  <a:pt x="96" y="912"/>
                </a:lnTo>
                <a:lnTo>
                  <a:pt x="48" y="864"/>
                </a:lnTo>
                <a:lnTo>
                  <a:pt x="0" y="768"/>
                </a:lnTo>
                <a:lnTo>
                  <a:pt x="0" y="624"/>
                </a:lnTo>
                <a:lnTo>
                  <a:pt x="48" y="528"/>
                </a:lnTo>
                <a:lnTo>
                  <a:pt x="96" y="480"/>
                </a:lnTo>
                <a:lnTo>
                  <a:pt x="144" y="144"/>
                </a:lnTo>
                <a:lnTo>
                  <a:pt x="192" y="0"/>
                </a:lnTo>
                <a:lnTo>
                  <a:pt x="288" y="0"/>
                </a:lnTo>
                <a:close/>
              </a:path>
            </a:pathLst>
          </a:custGeom>
          <a:solidFill>
            <a:srgbClr val="ff000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00560" y="2349360"/>
            <a:ext cx="3152520" cy="2070360"/>
          </a:xfrm>
          <a:custGeom>
            <a:avLst/>
            <a:gdLst/>
            <a:ahLst/>
            <a:rect l="l" t="t" r="r" b="b"/>
            <a:pathLst>
              <a:path w="1986" h="1304">
                <a:moveTo>
                  <a:pt x="930" y="56"/>
                </a:moveTo>
                <a:lnTo>
                  <a:pt x="834" y="248"/>
                </a:lnTo>
                <a:cubicBezTo>
                  <a:pt x="723" y="331"/>
                  <a:pt x="692" y="376"/>
                  <a:pt x="592" y="413"/>
                </a:cubicBezTo>
                <a:cubicBezTo>
                  <a:pt x="574" y="407"/>
                  <a:pt x="536" y="391"/>
                  <a:pt x="519" y="394"/>
                </a:cubicBezTo>
                <a:cubicBezTo>
                  <a:pt x="510" y="395"/>
                  <a:pt x="508" y="409"/>
                  <a:pt x="500" y="413"/>
                </a:cubicBezTo>
                <a:cubicBezTo>
                  <a:pt x="483" y="422"/>
                  <a:pt x="445" y="431"/>
                  <a:pt x="445" y="431"/>
                </a:cubicBezTo>
                <a:cubicBezTo>
                  <a:pt x="392" y="466"/>
                  <a:pt x="352" y="483"/>
                  <a:pt x="290" y="495"/>
                </a:cubicBezTo>
                <a:cubicBezTo>
                  <a:pt x="279" y="511"/>
                  <a:pt x="263" y="524"/>
                  <a:pt x="253" y="541"/>
                </a:cubicBezTo>
                <a:cubicBezTo>
                  <a:pt x="248" y="549"/>
                  <a:pt x="248" y="560"/>
                  <a:pt x="244" y="568"/>
                </a:cubicBezTo>
                <a:cubicBezTo>
                  <a:pt x="239" y="578"/>
                  <a:pt x="232" y="586"/>
                  <a:pt x="226" y="595"/>
                </a:cubicBezTo>
                <a:cubicBezTo>
                  <a:pt x="205" y="659"/>
                  <a:pt x="222" y="636"/>
                  <a:pt x="189" y="669"/>
                </a:cubicBezTo>
                <a:cubicBezTo>
                  <a:pt x="186" y="678"/>
                  <a:pt x="184" y="688"/>
                  <a:pt x="180" y="696"/>
                </a:cubicBezTo>
                <a:cubicBezTo>
                  <a:pt x="175" y="706"/>
                  <a:pt x="166" y="713"/>
                  <a:pt x="162" y="723"/>
                </a:cubicBezTo>
                <a:cubicBezTo>
                  <a:pt x="129" y="799"/>
                  <a:pt x="164" y="758"/>
                  <a:pt x="125" y="797"/>
                </a:cubicBezTo>
                <a:cubicBezTo>
                  <a:pt x="119" y="815"/>
                  <a:pt x="107" y="851"/>
                  <a:pt x="107" y="851"/>
                </a:cubicBezTo>
                <a:cubicBezTo>
                  <a:pt x="101" y="857"/>
                  <a:pt x="96" y="865"/>
                  <a:pt x="89" y="870"/>
                </a:cubicBezTo>
                <a:cubicBezTo>
                  <a:pt x="80" y="877"/>
                  <a:pt x="69" y="880"/>
                  <a:pt x="61" y="888"/>
                </a:cubicBezTo>
                <a:cubicBezTo>
                  <a:pt x="47" y="902"/>
                  <a:pt x="38" y="920"/>
                  <a:pt x="25" y="934"/>
                </a:cubicBezTo>
                <a:cubicBezTo>
                  <a:pt x="0" y="1010"/>
                  <a:pt x="113" y="956"/>
                  <a:pt x="144" y="970"/>
                </a:cubicBezTo>
                <a:lnTo>
                  <a:pt x="162" y="920"/>
                </a:lnTo>
                <a:lnTo>
                  <a:pt x="306" y="968"/>
                </a:lnTo>
                <a:lnTo>
                  <a:pt x="402" y="1160"/>
                </a:lnTo>
                <a:lnTo>
                  <a:pt x="450" y="1304"/>
                </a:lnTo>
                <a:lnTo>
                  <a:pt x="546" y="1256"/>
                </a:lnTo>
                <a:lnTo>
                  <a:pt x="690" y="1208"/>
                </a:lnTo>
                <a:cubicBezTo>
                  <a:pt x="722" y="1192"/>
                  <a:pt x="751" y="1168"/>
                  <a:pt x="786" y="1160"/>
                </a:cubicBezTo>
                <a:cubicBezTo>
                  <a:pt x="795" y="1158"/>
                  <a:pt x="802" y="1181"/>
                  <a:pt x="802" y="1181"/>
                </a:cubicBezTo>
                <a:cubicBezTo>
                  <a:pt x="829" y="1190"/>
                  <a:pt x="855" y="1199"/>
                  <a:pt x="882" y="1208"/>
                </a:cubicBezTo>
                <a:cubicBezTo>
                  <a:pt x="892" y="1211"/>
                  <a:pt x="912" y="1217"/>
                  <a:pt x="912" y="1217"/>
                </a:cubicBezTo>
                <a:lnTo>
                  <a:pt x="978" y="1208"/>
                </a:lnTo>
                <a:lnTo>
                  <a:pt x="1074" y="1208"/>
                </a:lnTo>
                <a:lnTo>
                  <a:pt x="1170" y="1208"/>
                </a:lnTo>
                <a:lnTo>
                  <a:pt x="1314" y="1208"/>
                </a:lnTo>
                <a:cubicBezTo>
                  <a:pt x="1372" y="1211"/>
                  <a:pt x="1430" y="1214"/>
                  <a:pt x="1488" y="1217"/>
                </a:cubicBezTo>
                <a:lnTo>
                  <a:pt x="1602" y="1304"/>
                </a:lnTo>
                <a:lnTo>
                  <a:pt x="1698" y="1304"/>
                </a:lnTo>
                <a:lnTo>
                  <a:pt x="1698" y="1160"/>
                </a:lnTo>
                <a:lnTo>
                  <a:pt x="1842" y="968"/>
                </a:lnTo>
                <a:lnTo>
                  <a:pt x="1938" y="920"/>
                </a:lnTo>
                <a:lnTo>
                  <a:pt x="1986" y="584"/>
                </a:lnTo>
                <a:lnTo>
                  <a:pt x="1938" y="488"/>
                </a:lnTo>
                <a:lnTo>
                  <a:pt x="1890" y="440"/>
                </a:lnTo>
                <a:lnTo>
                  <a:pt x="1794" y="440"/>
                </a:lnTo>
                <a:lnTo>
                  <a:pt x="1650" y="440"/>
                </a:lnTo>
                <a:cubicBezTo>
                  <a:pt x="1618" y="408"/>
                  <a:pt x="1592" y="368"/>
                  <a:pt x="1554" y="344"/>
                </a:cubicBezTo>
                <a:cubicBezTo>
                  <a:pt x="1545" y="339"/>
                  <a:pt x="1533" y="367"/>
                  <a:pt x="1533" y="367"/>
                </a:cubicBezTo>
                <a:lnTo>
                  <a:pt x="1362" y="344"/>
                </a:lnTo>
                <a:lnTo>
                  <a:pt x="1266" y="200"/>
                </a:lnTo>
                <a:lnTo>
                  <a:pt x="1218" y="104"/>
                </a:lnTo>
                <a:cubicBezTo>
                  <a:pt x="1202" y="72"/>
                  <a:pt x="1192" y="37"/>
                  <a:pt x="1170" y="8"/>
                </a:cubicBezTo>
                <a:cubicBezTo>
                  <a:pt x="1164" y="0"/>
                  <a:pt x="1165" y="28"/>
                  <a:pt x="1168" y="38"/>
                </a:cubicBezTo>
                <a:cubicBezTo>
                  <a:pt x="1171" y="46"/>
                  <a:pt x="1180" y="50"/>
                  <a:pt x="1186" y="56"/>
                </a:cubicBezTo>
                <a:lnTo>
                  <a:pt x="1218" y="344"/>
                </a:lnTo>
                <a:lnTo>
                  <a:pt x="1314" y="584"/>
                </a:lnTo>
                <a:lnTo>
                  <a:pt x="1362" y="776"/>
                </a:lnTo>
                <a:lnTo>
                  <a:pt x="1218" y="920"/>
                </a:lnTo>
                <a:lnTo>
                  <a:pt x="978" y="920"/>
                </a:lnTo>
                <a:lnTo>
                  <a:pt x="786" y="824"/>
                </a:lnTo>
                <a:lnTo>
                  <a:pt x="786" y="632"/>
                </a:lnTo>
                <a:cubicBezTo>
                  <a:pt x="851" y="309"/>
                  <a:pt x="807" y="473"/>
                  <a:pt x="875" y="330"/>
                </a:cubicBezTo>
                <a:cubicBezTo>
                  <a:pt x="932" y="145"/>
                  <a:pt x="881" y="190"/>
                  <a:pt x="948" y="138"/>
                </a:cubicBezTo>
                <a:lnTo>
                  <a:pt x="930" y="56"/>
                </a:lnTo>
                <a:close/>
              </a:path>
            </a:pathLst>
          </a:cu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3809880"/>
            <a:ext cx="3429000" cy="2210040"/>
          </a:xfrm>
          <a:custGeom>
            <a:avLst/>
            <a:gdLst/>
            <a:ahLst/>
            <a:rect l="l" t="t" r="r" b="b"/>
            <a:pathLst>
              <a:path w="2160" h="1392">
                <a:moveTo>
                  <a:pt x="0" y="96"/>
                </a:moveTo>
                <a:lnTo>
                  <a:pt x="144" y="480"/>
                </a:lnTo>
                <a:lnTo>
                  <a:pt x="144" y="816"/>
                </a:lnTo>
                <a:cubicBezTo>
                  <a:pt x="160" y="908"/>
                  <a:pt x="166" y="1003"/>
                  <a:pt x="192" y="1093"/>
                </a:cubicBezTo>
                <a:cubicBezTo>
                  <a:pt x="198" y="1114"/>
                  <a:pt x="238" y="1138"/>
                  <a:pt x="238" y="1138"/>
                </a:cubicBezTo>
                <a:cubicBezTo>
                  <a:pt x="241" y="1147"/>
                  <a:pt x="240" y="1159"/>
                  <a:pt x="247" y="1166"/>
                </a:cubicBezTo>
                <a:cubicBezTo>
                  <a:pt x="254" y="1173"/>
                  <a:pt x="266" y="1170"/>
                  <a:pt x="274" y="1175"/>
                </a:cubicBezTo>
                <a:cubicBezTo>
                  <a:pt x="291" y="1185"/>
                  <a:pt x="304" y="1200"/>
                  <a:pt x="320" y="1211"/>
                </a:cubicBezTo>
                <a:cubicBezTo>
                  <a:pt x="354" y="1264"/>
                  <a:pt x="398" y="1293"/>
                  <a:pt x="457" y="1312"/>
                </a:cubicBezTo>
                <a:cubicBezTo>
                  <a:pt x="469" y="1316"/>
                  <a:pt x="482" y="1317"/>
                  <a:pt x="494" y="1321"/>
                </a:cubicBezTo>
                <a:cubicBezTo>
                  <a:pt x="513" y="1326"/>
                  <a:pt x="549" y="1339"/>
                  <a:pt x="549" y="1339"/>
                </a:cubicBezTo>
                <a:cubicBezTo>
                  <a:pt x="555" y="1345"/>
                  <a:pt x="559" y="1354"/>
                  <a:pt x="567" y="1358"/>
                </a:cubicBezTo>
                <a:cubicBezTo>
                  <a:pt x="584" y="1367"/>
                  <a:pt x="573" y="1378"/>
                  <a:pt x="622" y="1376"/>
                </a:cubicBezTo>
                <a:lnTo>
                  <a:pt x="960" y="1392"/>
                </a:lnTo>
                <a:lnTo>
                  <a:pt x="1392" y="1392"/>
                </a:lnTo>
                <a:lnTo>
                  <a:pt x="1776" y="1296"/>
                </a:lnTo>
                <a:lnTo>
                  <a:pt x="1968" y="1104"/>
                </a:lnTo>
                <a:lnTo>
                  <a:pt x="2064" y="768"/>
                </a:lnTo>
                <a:lnTo>
                  <a:pt x="2064" y="480"/>
                </a:lnTo>
                <a:lnTo>
                  <a:pt x="2160" y="0"/>
                </a:lnTo>
                <a:lnTo>
                  <a:pt x="1920" y="48"/>
                </a:lnTo>
                <a:lnTo>
                  <a:pt x="1824" y="384"/>
                </a:lnTo>
                <a:lnTo>
                  <a:pt x="1728" y="576"/>
                </a:lnTo>
                <a:lnTo>
                  <a:pt x="1680" y="768"/>
                </a:lnTo>
                <a:lnTo>
                  <a:pt x="1488" y="816"/>
                </a:lnTo>
                <a:lnTo>
                  <a:pt x="1296" y="816"/>
                </a:lnTo>
                <a:lnTo>
                  <a:pt x="1152" y="768"/>
                </a:lnTo>
                <a:lnTo>
                  <a:pt x="912" y="816"/>
                </a:lnTo>
                <a:lnTo>
                  <a:pt x="816" y="816"/>
                </a:lnTo>
                <a:lnTo>
                  <a:pt x="672" y="816"/>
                </a:lnTo>
                <a:lnTo>
                  <a:pt x="480" y="768"/>
                </a:lnTo>
                <a:lnTo>
                  <a:pt x="432" y="576"/>
                </a:lnTo>
                <a:lnTo>
                  <a:pt x="288" y="240"/>
                </a:lnTo>
                <a:lnTo>
                  <a:pt x="240" y="48"/>
                </a:lnTo>
                <a:lnTo>
                  <a:pt x="192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5029200"/>
            <a:ext cx="3049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96" y="96"/>
                </a:moveTo>
                <a:lnTo>
                  <a:pt x="48" y="384"/>
                </a:lnTo>
                <a:lnTo>
                  <a:pt x="0" y="576"/>
                </a:lnTo>
                <a:lnTo>
                  <a:pt x="48" y="624"/>
                </a:lnTo>
                <a:lnTo>
                  <a:pt x="240" y="624"/>
                </a:lnTo>
                <a:lnTo>
                  <a:pt x="288" y="576"/>
                </a:lnTo>
                <a:lnTo>
                  <a:pt x="240" y="240"/>
                </a:lnTo>
                <a:lnTo>
                  <a:pt x="192" y="96"/>
                </a:lnTo>
                <a:lnTo>
                  <a:pt x="192" y="0"/>
                </a:lnTo>
                <a:lnTo>
                  <a:pt x="96" y="96"/>
                </a:lnTo>
                <a:close/>
              </a:path>
            </a:pathLst>
          </a:cu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5334120"/>
            <a:ext cx="22860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1600200"/>
            <a:ext cx="22860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3124080"/>
            <a:ext cx="2286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3886200"/>
            <a:ext cx="2286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3886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Arial"/>
              </a:rPr>
              <a:t>Anterior Sku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406404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934320" y="11430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nasal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6360" y="1523880"/>
            <a:ext cx="21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perpendi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31200" y="38862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vomer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2514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superior orbital fi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800240" y="1447920"/>
            <a:ext cx="213372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2057400"/>
            <a:ext cx="38088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96"/>
                </a:moveTo>
                <a:lnTo>
                  <a:pt x="48" y="0"/>
                </a:lnTo>
                <a:lnTo>
                  <a:pt x="144" y="0"/>
                </a:lnTo>
                <a:lnTo>
                  <a:pt x="240" y="240"/>
                </a:lnTo>
                <a:lnTo>
                  <a:pt x="96" y="192"/>
                </a:lnTo>
                <a:lnTo>
                  <a:pt x="0" y="240"/>
                </a:lnTo>
                <a:lnTo>
                  <a:pt x="0" y="96"/>
                </a:lnTo>
                <a:close/>
              </a:path>
            </a:pathLst>
          </a:custGeom>
          <a:solidFill>
            <a:srgbClr val="ff00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295280" y="2819520"/>
            <a:ext cx="2743200" cy="304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35560" y="3265560"/>
            <a:ext cx="441360" cy="515880"/>
          </a:xfrm>
          <a:custGeom>
            <a:avLst/>
            <a:gdLst/>
            <a:ahLst/>
            <a:rect l="l" t="t" r="r" b="b"/>
            <a:pathLst>
              <a:path w="278" h="325">
                <a:moveTo>
                  <a:pt x="113" y="101"/>
                </a:moveTo>
                <a:cubicBezTo>
                  <a:pt x="102" y="135"/>
                  <a:pt x="83" y="140"/>
                  <a:pt x="59" y="165"/>
                </a:cubicBezTo>
                <a:cubicBezTo>
                  <a:pt x="49" y="200"/>
                  <a:pt x="42" y="226"/>
                  <a:pt x="22" y="256"/>
                </a:cubicBezTo>
                <a:cubicBezTo>
                  <a:pt x="0" y="325"/>
                  <a:pt x="66" y="301"/>
                  <a:pt x="113" y="293"/>
                </a:cubicBezTo>
                <a:cubicBezTo>
                  <a:pt x="169" y="284"/>
                  <a:pt x="221" y="264"/>
                  <a:pt x="278" y="256"/>
                </a:cubicBezTo>
                <a:cubicBezTo>
                  <a:pt x="223" y="219"/>
                  <a:pt x="270" y="260"/>
                  <a:pt x="241" y="165"/>
                </a:cubicBezTo>
                <a:cubicBezTo>
                  <a:pt x="235" y="146"/>
                  <a:pt x="214" y="136"/>
                  <a:pt x="205" y="119"/>
                </a:cubicBezTo>
                <a:cubicBezTo>
                  <a:pt x="187" y="84"/>
                  <a:pt x="180" y="38"/>
                  <a:pt x="168" y="0"/>
                </a:cubicBezTo>
                <a:cubicBezTo>
                  <a:pt x="151" y="27"/>
                  <a:pt x="144" y="58"/>
                  <a:pt x="123" y="82"/>
                </a:cubicBezTo>
                <a:cubicBezTo>
                  <a:pt x="109" y="98"/>
                  <a:pt x="89" y="110"/>
                  <a:pt x="77" y="128"/>
                </a:cubicBezTo>
                <a:cubicBezTo>
                  <a:pt x="71" y="137"/>
                  <a:pt x="64" y="146"/>
                  <a:pt x="59" y="156"/>
                </a:cubicBezTo>
                <a:cubicBezTo>
                  <a:pt x="55" y="165"/>
                  <a:pt x="49" y="183"/>
                  <a:pt x="49" y="183"/>
                </a:cubicBezTo>
              </a:path>
            </a:pathLst>
          </a:custGeom>
          <a:solidFill>
            <a:srgbClr val="ff00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800600" y="3581280"/>
            <a:ext cx="182880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133720"/>
            <a:ext cx="289548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2666880"/>
            <a:ext cx="228600" cy="53352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48" y="0"/>
                </a:moveTo>
                <a:lnTo>
                  <a:pt x="0" y="144"/>
                </a:lnTo>
                <a:lnTo>
                  <a:pt x="48" y="288"/>
                </a:lnTo>
                <a:lnTo>
                  <a:pt x="144" y="288"/>
                </a:lnTo>
                <a:lnTo>
                  <a:pt x="96" y="96"/>
                </a:lnTo>
                <a:lnTo>
                  <a:pt x="48" y="0"/>
                </a:lnTo>
                <a:close/>
              </a:path>
            </a:pathLst>
          </a:cu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3200400"/>
            <a:ext cx="231840" cy="473040"/>
          </a:xfrm>
          <a:custGeom>
            <a:avLst/>
            <a:gdLst/>
            <a:ahLst/>
            <a:rect l="l" t="t" r="r" b="b"/>
            <a:pathLst>
              <a:path w="146" h="298">
                <a:moveTo>
                  <a:pt x="0" y="0"/>
                </a:moveTo>
                <a:lnTo>
                  <a:pt x="0" y="192"/>
                </a:lnTo>
                <a:cubicBezTo>
                  <a:pt x="10" y="197"/>
                  <a:pt x="146" y="298"/>
                  <a:pt x="146" y="215"/>
                </a:cubicBezTo>
                <a:lnTo>
                  <a:pt x="144" y="48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5880240" cy="5194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Arial"/>
              </a:rPr>
              <a:t>Paranasal Sinuses</a:t>
            </a: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29528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frontal si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057400"/>
            <a:ext cx="22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ethmoid si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6360" y="289548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maxilary si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15720" y="457200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sphenoid si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1600200"/>
            <a:ext cx="1523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2286000"/>
            <a:ext cx="15242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200400"/>
            <a:ext cx="1523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486040" y="2819520"/>
            <a:ext cx="76212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799160" cy="57913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Arial"/>
              </a:rPr>
              <a:t>Cranium</a:t>
            </a: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3049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frontal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65000" y="16002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parietal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2160" y="45356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occipital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160" y="18684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sagittal s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0160" y="87804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coronal s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666880" y="837720"/>
            <a:ext cx="7621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213372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952880" y="4800600"/>
            <a:ext cx="19051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48520" y="1905120"/>
            <a:ext cx="8380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876920" y="380520"/>
            <a:ext cx="18288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14600" y="0"/>
            <a:ext cx="4013280" cy="59436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Ventral Skull</a:t>
            </a:r>
            <a:endParaRPr b="1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60" y="17524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palatine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0400" y="236232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vomer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39400" y="37339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mastoid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8560" y="23623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styloid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533520"/>
            <a:ext cx="838440" cy="99036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0" y="240"/>
                </a:lnTo>
                <a:lnTo>
                  <a:pt x="48" y="48"/>
                </a:lnTo>
                <a:lnTo>
                  <a:pt x="192" y="0"/>
                </a:lnTo>
                <a:lnTo>
                  <a:pt x="336" y="48"/>
                </a:lnTo>
                <a:lnTo>
                  <a:pt x="432" y="144"/>
                </a:lnTo>
                <a:lnTo>
                  <a:pt x="528" y="480"/>
                </a:lnTo>
                <a:lnTo>
                  <a:pt x="528" y="624"/>
                </a:lnTo>
                <a:lnTo>
                  <a:pt x="144" y="576"/>
                </a:lnTo>
                <a:lnTo>
                  <a:pt x="0" y="624"/>
                </a:lnTo>
                <a:close/>
              </a:path>
            </a:pathLst>
          </a:custGeom>
          <a:solidFill>
            <a:srgbClr val="ff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38200">
            <a:off x="3962160" y="144756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96" y="48"/>
                </a:moveTo>
                <a:lnTo>
                  <a:pt x="0" y="96"/>
                </a:lnTo>
                <a:lnTo>
                  <a:pt x="48" y="288"/>
                </a:lnTo>
                <a:cubicBezTo>
                  <a:pt x="162" y="174"/>
                  <a:pt x="110" y="217"/>
                  <a:pt x="192" y="176"/>
                </a:cubicBezTo>
                <a:lnTo>
                  <a:pt x="288" y="288"/>
                </a:lnTo>
                <a:cubicBezTo>
                  <a:pt x="437" y="189"/>
                  <a:pt x="409" y="245"/>
                  <a:pt x="439" y="176"/>
                </a:cubicBezTo>
                <a:lnTo>
                  <a:pt x="576" y="288"/>
                </a:lnTo>
                <a:lnTo>
                  <a:pt x="624" y="96"/>
                </a:lnTo>
                <a:lnTo>
                  <a:pt x="528" y="0"/>
                </a:lnTo>
                <a:lnTo>
                  <a:pt x="336" y="0"/>
                </a:lnTo>
                <a:lnTo>
                  <a:pt x="96" y="48"/>
                </a:lnTo>
                <a:close/>
              </a:path>
            </a:pathLst>
          </a:custGeom>
          <a:solidFill>
            <a:srgbClr val="ff0000">
              <a:alpha val="33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9718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3200400"/>
            <a:ext cx="6094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2590920"/>
            <a:ext cx="3352680" cy="3352680"/>
          </a:xfrm>
          <a:custGeom>
            <a:avLst/>
            <a:gdLst/>
            <a:ahLst/>
            <a:rect l="l" t="t" r="r" b="b"/>
            <a:pathLst>
              <a:path w="2112" h="2112">
                <a:moveTo>
                  <a:pt x="912" y="96"/>
                </a:moveTo>
                <a:lnTo>
                  <a:pt x="720" y="432"/>
                </a:lnTo>
                <a:lnTo>
                  <a:pt x="288" y="672"/>
                </a:lnTo>
                <a:lnTo>
                  <a:pt x="192" y="1008"/>
                </a:lnTo>
                <a:lnTo>
                  <a:pt x="144" y="1152"/>
                </a:lnTo>
                <a:lnTo>
                  <a:pt x="0" y="1200"/>
                </a:lnTo>
                <a:lnTo>
                  <a:pt x="240" y="1728"/>
                </a:lnTo>
                <a:lnTo>
                  <a:pt x="672" y="2016"/>
                </a:lnTo>
                <a:lnTo>
                  <a:pt x="1104" y="2112"/>
                </a:lnTo>
                <a:lnTo>
                  <a:pt x="1536" y="2016"/>
                </a:lnTo>
                <a:lnTo>
                  <a:pt x="1776" y="1824"/>
                </a:lnTo>
                <a:lnTo>
                  <a:pt x="2112" y="1488"/>
                </a:lnTo>
                <a:lnTo>
                  <a:pt x="2064" y="1248"/>
                </a:lnTo>
                <a:lnTo>
                  <a:pt x="1872" y="1152"/>
                </a:lnTo>
                <a:lnTo>
                  <a:pt x="1824" y="672"/>
                </a:lnTo>
                <a:lnTo>
                  <a:pt x="1680" y="480"/>
                </a:lnTo>
                <a:lnTo>
                  <a:pt x="1536" y="384"/>
                </a:lnTo>
                <a:lnTo>
                  <a:pt x="1440" y="432"/>
                </a:lnTo>
                <a:lnTo>
                  <a:pt x="1344" y="240"/>
                </a:lnTo>
                <a:lnTo>
                  <a:pt x="1296" y="48"/>
                </a:lnTo>
                <a:lnTo>
                  <a:pt x="1104" y="0"/>
                </a:lnTo>
                <a:lnTo>
                  <a:pt x="912" y="0"/>
                </a:lnTo>
                <a:lnTo>
                  <a:pt x="912" y="96"/>
                </a:lnTo>
                <a:close/>
              </a:path>
            </a:pathLst>
          </a:custGeom>
          <a:solidFill>
            <a:srgbClr val="ff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057400"/>
            <a:ext cx="1600200" cy="2438280"/>
          </a:xfrm>
          <a:custGeom>
            <a:avLst/>
            <a:gdLst/>
            <a:ahLst/>
            <a:rect l="l" t="t" r="r" b="b"/>
            <a:pathLst>
              <a:path w="960" h="1488">
                <a:moveTo>
                  <a:pt x="384" y="96"/>
                </a:moveTo>
                <a:lnTo>
                  <a:pt x="96" y="384"/>
                </a:lnTo>
                <a:lnTo>
                  <a:pt x="0" y="672"/>
                </a:lnTo>
                <a:lnTo>
                  <a:pt x="0" y="1104"/>
                </a:lnTo>
                <a:lnTo>
                  <a:pt x="48" y="1488"/>
                </a:lnTo>
                <a:lnTo>
                  <a:pt x="240" y="1392"/>
                </a:lnTo>
                <a:lnTo>
                  <a:pt x="384" y="960"/>
                </a:lnTo>
                <a:lnTo>
                  <a:pt x="768" y="720"/>
                </a:lnTo>
                <a:lnTo>
                  <a:pt x="960" y="480"/>
                </a:lnTo>
                <a:lnTo>
                  <a:pt x="768" y="384"/>
                </a:lnTo>
                <a:lnTo>
                  <a:pt x="576" y="624"/>
                </a:lnTo>
                <a:lnTo>
                  <a:pt x="432" y="0"/>
                </a:lnTo>
                <a:lnTo>
                  <a:pt x="384" y="96"/>
                </a:lnTo>
                <a:close/>
              </a:path>
            </a:pathLst>
          </a:custGeom>
          <a:solidFill>
            <a:srgbClr val="ff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760" y="3048120"/>
            <a:ext cx="22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temporal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48769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occipital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362320" y="1600200"/>
            <a:ext cx="19810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133720" y="2057400"/>
            <a:ext cx="213336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438280" y="3200400"/>
            <a:ext cx="685800" cy="7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876920" y="4800240"/>
            <a:ext cx="175248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562360" y="2666880"/>
            <a:ext cx="99036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6095880" y="3657600"/>
            <a:ext cx="5335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1752480"/>
            <a:ext cx="762120" cy="771480"/>
          </a:xfrm>
          <a:custGeom>
            <a:avLst/>
            <a:gdLst/>
            <a:ahLst/>
            <a:rect l="l" t="t" r="r" b="b"/>
            <a:pathLst>
              <a:path w="480" h="486">
                <a:moveTo>
                  <a:pt x="0" y="48"/>
                </a:moveTo>
                <a:lnTo>
                  <a:pt x="48" y="384"/>
                </a:lnTo>
                <a:cubicBezTo>
                  <a:pt x="80" y="416"/>
                  <a:pt x="107" y="454"/>
                  <a:pt x="144" y="480"/>
                </a:cubicBezTo>
                <a:cubicBezTo>
                  <a:pt x="152" y="486"/>
                  <a:pt x="161" y="470"/>
                  <a:pt x="171" y="469"/>
                </a:cubicBezTo>
                <a:cubicBezTo>
                  <a:pt x="311" y="459"/>
                  <a:pt x="355" y="459"/>
                  <a:pt x="455" y="459"/>
                </a:cubicBezTo>
                <a:lnTo>
                  <a:pt x="480" y="288"/>
                </a:lnTo>
                <a:lnTo>
                  <a:pt x="480" y="48"/>
                </a:lnTo>
                <a:lnTo>
                  <a:pt x="336" y="0"/>
                </a:lnTo>
                <a:lnTo>
                  <a:pt x="240" y="96"/>
                </a:lnTo>
                <a:lnTo>
                  <a:pt x="144" y="0"/>
                </a:lnTo>
                <a:lnTo>
                  <a:pt x="0" y="48"/>
                </a:lnTo>
                <a:close/>
              </a:path>
            </a:pathLst>
          </a:custGeom>
          <a:solidFill>
            <a:srgbClr val="ff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1828800"/>
            <a:ext cx="2210040" cy="1143000"/>
          </a:xfrm>
          <a:custGeom>
            <a:avLst/>
            <a:gdLst/>
            <a:ahLst/>
            <a:rect l="l" t="t" r="r" b="b"/>
            <a:pathLst>
              <a:path w="1392" h="720">
                <a:moveTo>
                  <a:pt x="432" y="96"/>
                </a:moveTo>
                <a:lnTo>
                  <a:pt x="336" y="48"/>
                </a:lnTo>
                <a:lnTo>
                  <a:pt x="144" y="96"/>
                </a:lnTo>
                <a:lnTo>
                  <a:pt x="0" y="192"/>
                </a:lnTo>
                <a:lnTo>
                  <a:pt x="96" y="720"/>
                </a:lnTo>
                <a:lnTo>
                  <a:pt x="480" y="432"/>
                </a:lnTo>
                <a:lnTo>
                  <a:pt x="768" y="432"/>
                </a:lnTo>
                <a:lnTo>
                  <a:pt x="1056" y="528"/>
                </a:lnTo>
                <a:lnTo>
                  <a:pt x="1200" y="672"/>
                </a:lnTo>
                <a:lnTo>
                  <a:pt x="1344" y="720"/>
                </a:lnTo>
                <a:lnTo>
                  <a:pt x="1392" y="576"/>
                </a:lnTo>
                <a:lnTo>
                  <a:pt x="1392" y="480"/>
                </a:lnTo>
                <a:lnTo>
                  <a:pt x="1248" y="240"/>
                </a:lnTo>
                <a:lnTo>
                  <a:pt x="1152" y="144"/>
                </a:lnTo>
                <a:lnTo>
                  <a:pt x="1008" y="48"/>
                </a:lnTo>
                <a:lnTo>
                  <a:pt x="912" y="96"/>
                </a:lnTo>
                <a:lnTo>
                  <a:pt x="912" y="384"/>
                </a:lnTo>
                <a:lnTo>
                  <a:pt x="864" y="432"/>
                </a:lnTo>
                <a:lnTo>
                  <a:pt x="528" y="432"/>
                </a:lnTo>
                <a:lnTo>
                  <a:pt x="432" y="192"/>
                </a:lnTo>
                <a:lnTo>
                  <a:pt x="384" y="0"/>
                </a:lnTo>
              </a:path>
            </a:pathLst>
          </a:custGeom>
          <a:solidFill>
            <a:srgbClr val="ff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8800" y="4876560"/>
            <a:ext cx="556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Arial"/>
              </a:rPr>
              <a:t>Occipital bone</a:t>
            </a:r>
            <a:endParaRPr b="1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715000" cy="4622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315560" y="3581280"/>
            <a:ext cx="141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occi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cond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440" y="2362320"/>
            <a:ext cx="13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jug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fora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0040" y="121932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carot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ca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143000"/>
            <a:ext cx="5335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1295280"/>
            <a:ext cx="380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676520"/>
            <a:ext cx="76176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600200"/>
            <a:ext cx="7621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905120"/>
            <a:ext cx="914400" cy="914400"/>
          </a:xfrm>
          <a:prstGeom prst="ellipse">
            <a:avLst/>
          </a:prstGeom>
          <a:solidFill>
            <a:srgbClr val="ff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47920" y="1371240"/>
            <a:ext cx="175248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447920" y="1904760"/>
            <a:ext cx="1752480" cy="99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715000" y="2514240"/>
            <a:ext cx="1752480" cy="1676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1828800"/>
            <a:ext cx="914400" cy="914400"/>
          </a:xfrm>
          <a:prstGeom prst="ellipse">
            <a:avLst/>
          </a:prstGeom>
          <a:solidFill>
            <a:srgbClr val="ff0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00" y="396252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foramen mag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743200" y="2895120"/>
            <a:ext cx="1905120" cy="129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24280" y="5486040"/>
            <a:ext cx="2895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teral Skull</a:t>
            </a:r>
            <a:endParaRPr b="1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095880" cy="537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621200" y="914400"/>
            <a:ext cx="13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lacr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0920" y="182880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temp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4876920"/>
            <a:ext cx="30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mandibular cond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In mandibular fos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(TMJ joi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80" y="3849840"/>
            <a:ext cx="26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external acou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me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1981080"/>
            <a:ext cx="2514600" cy="2833920"/>
          </a:xfrm>
          <a:custGeom>
            <a:avLst/>
            <a:gdLst/>
            <a:ahLst/>
            <a:rect l="l" t="t" r="r" b="b"/>
            <a:pathLst>
              <a:path w="1584" h="1785">
                <a:moveTo>
                  <a:pt x="1536" y="576"/>
                </a:moveTo>
                <a:lnTo>
                  <a:pt x="1440" y="672"/>
                </a:lnTo>
                <a:lnTo>
                  <a:pt x="1104" y="240"/>
                </a:lnTo>
                <a:lnTo>
                  <a:pt x="864" y="0"/>
                </a:lnTo>
                <a:lnTo>
                  <a:pt x="480" y="192"/>
                </a:lnTo>
                <a:lnTo>
                  <a:pt x="96" y="384"/>
                </a:lnTo>
                <a:lnTo>
                  <a:pt x="0" y="720"/>
                </a:lnTo>
                <a:lnTo>
                  <a:pt x="48" y="1200"/>
                </a:lnTo>
                <a:lnTo>
                  <a:pt x="288" y="1536"/>
                </a:lnTo>
                <a:cubicBezTo>
                  <a:pt x="368" y="1616"/>
                  <a:pt x="441" y="1704"/>
                  <a:pt x="528" y="1776"/>
                </a:cubicBezTo>
                <a:cubicBezTo>
                  <a:pt x="539" y="1785"/>
                  <a:pt x="537" y="1761"/>
                  <a:pt x="569" y="1769"/>
                </a:cubicBezTo>
                <a:cubicBezTo>
                  <a:pt x="635" y="1771"/>
                  <a:pt x="702" y="1779"/>
                  <a:pt x="768" y="1776"/>
                </a:cubicBezTo>
                <a:cubicBezTo>
                  <a:pt x="777" y="1776"/>
                  <a:pt x="781" y="1763"/>
                  <a:pt x="789" y="1760"/>
                </a:cubicBezTo>
                <a:cubicBezTo>
                  <a:pt x="798" y="1757"/>
                  <a:pt x="807" y="1760"/>
                  <a:pt x="816" y="1760"/>
                </a:cubicBezTo>
                <a:cubicBezTo>
                  <a:pt x="978" y="1625"/>
                  <a:pt x="889" y="1738"/>
                  <a:pt x="889" y="1614"/>
                </a:cubicBezTo>
                <a:lnTo>
                  <a:pt x="912" y="1440"/>
                </a:lnTo>
                <a:lnTo>
                  <a:pt x="1056" y="1296"/>
                </a:lnTo>
                <a:lnTo>
                  <a:pt x="960" y="1104"/>
                </a:lnTo>
                <a:lnTo>
                  <a:pt x="1248" y="1104"/>
                </a:lnTo>
                <a:lnTo>
                  <a:pt x="1440" y="1008"/>
                </a:lnTo>
                <a:lnTo>
                  <a:pt x="1536" y="1008"/>
                </a:lnTo>
                <a:lnTo>
                  <a:pt x="1584" y="816"/>
                </a:lnTo>
                <a:lnTo>
                  <a:pt x="1440" y="672"/>
                </a:lnTo>
              </a:path>
            </a:pathLst>
          </a:cu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56080" y="2057400"/>
            <a:ext cx="1549440" cy="2362320"/>
          </a:xfrm>
          <a:custGeom>
            <a:avLst/>
            <a:gdLst/>
            <a:ahLst/>
            <a:rect l="l" t="t" r="r" b="b"/>
            <a:pathLst>
              <a:path w="976" h="1488">
                <a:moveTo>
                  <a:pt x="304" y="1488"/>
                </a:moveTo>
                <a:cubicBezTo>
                  <a:pt x="208" y="1408"/>
                  <a:pt x="112" y="1328"/>
                  <a:pt x="64" y="1200"/>
                </a:cubicBezTo>
                <a:cubicBezTo>
                  <a:pt x="16" y="1072"/>
                  <a:pt x="0" y="856"/>
                  <a:pt x="16" y="720"/>
                </a:cubicBezTo>
                <a:cubicBezTo>
                  <a:pt x="32" y="584"/>
                  <a:pt x="72" y="480"/>
                  <a:pt x="160" y="384"/>
                </a:cubicBezTo>
                <a:cubicBezTo>
                  <a:pt x="248" y="288"/>
                  <a:pt x="408" y="208"/>
                  <a:pt x="544" y="144"/>
                </a:cubicBezTo>
                <a:cubicBezTo>
                  <a:pt x="680" y="80"/>
                  <a:pt x="904" y="16"/>
                  <a:pt x="976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3581280"/>
            <a:ext cx="5335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1981080"/>
            <a:ext cx="304560" cy="53352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48" y="48"/>
                </a:moveTo>
                <a:lnTo>
                  <a:pt x="0" y="144"/>
                </a:lnTo>
                <a:lnTo>
                  <a:pt x="96" y="336"/>
                </a:lnTo>
                <a:lnTo>
                  <a:pt x="192" y="240"/>
                </a:lnTo>
                <a:lnTo>
                  <a:pt x="144" y="96"/>
                </a:lnTo>
                <a:lnTo>
                  <a:pt x="96" y="0"/>
                </a:lnTo>
                <a:lnTo>
                  <a:pt x="48" y="48"/>
                </a:lnTo>
                <a:close/>
              </a:path>
            </a:pathLst>
          </a:custGeom>
          <a:solidFill>
            <a:srgbClr val="ff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162920" y="1523880"/>
            <a:ext cx="76176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2438280"/>
            <a:ext cx="274320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191120" y="3809520"/>
            <a:ext cx="990360" cy="1752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733920"/>
            <a:ext cx="38124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057400" y="3885840"/>
            <a:ext cx="274320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21276" r="0" b="0"/>
          <a:stretch/>
        </p:blipFill>
        <p:spPr>
          <a:xfrm>
            <a:off x="1600200" y="0"/>
            <a:ext cx="6095880" cy="4229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640120" y="43434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876920" y="3276360"/>
            <a:ext cx="228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3657600"/>
            <a:ext cx="380880" cy="22860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0" y="0"/>
                </a:moveTo>
                <a:cubicBezTo>
                  <a:pt x="40" y="80"/>
                  <a:pt x="80" y="160"/>
                  <a:pt x="144" y="192"/>
                </a:cubicBezTo>
                <a:cubicBezTo>
                  <a:pt x="208" y="224"/>
                  <a:pt x="344" y="200"/>
                  <a:pt x="384" y="192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16002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coronoid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83480" y="60948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zygomatic 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120" y="312408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mastoid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5320" y="38098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styloid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040" y="129528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spheno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7520" y="43434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2240" y="4267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ra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410080" y="3886200"/>
            <a:ext cx="60984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781320" y="3505320"/>
            <a:ext cx="30492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58880" y="480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mand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776680"/>
            <a:ext cx="1939680" cy="1109520"/>
          </a:xfrm>
          <a:custGeom>
            <a:avLst/>
            <a:gdLst/>
            <a:ahLst/>
            <a:rect l="l" t="t" r="r" b="b"/>
            <a:pathLst>
              <a:path w="1127" h="687">
                <a:moveTo>
                  <a:pt x="207" y="219"/>
                </a:moveTo>
                <a:cubicBezTo>
                  <a:pt x="188" y="248"/>
                  <a:pt x="167" y="295"/>
                  <a:pt x="143" y="320"/>
                </a:cubicBezTo>
                <a:cubicBezTo>
                  <a:pt x="131" y="357"/>
                  <a:pt x="110" y="396"/>
                  <a:pt x="88" y="429"/>
                </a:cubicBezTo>
                <a:cubicBezTo>
                  <a:pt x="72" y="478"/>
                  <a:pt x="40" y="517"/>
                  <a:pt x="24" y="566"/>
                </a:cubicBezTo>
                <a:cubicBezTo>
                  <a:pt x="21" y="603"/>
                  <a:pt x="0" y="643"/>
                  <a:pt x="15" y="676"/>
                </a:cubicBezTo>
                <a:cubicBezTo>
                  <a:pt x="20" y="687"/>
                  <a:pt x="123" y="649"/>
                  <a:pt x="124" y="649"/>
                </a:cubicBezTo>
                <a:cubicBezTo>
                  <a:pt x="237" y="611"/>
                  <a:pt x="362" y="643"/>
                  <a:pt x="481" y="640"/>
                </a:cubicBezTo>
                <a:cubicBezTo>
                  <a:pt x="571" y="616"/>
                  <a:pt x="465" y="640"/>
                  <a:pt x="646" y="640"/>
                </a:cubicBezTo>
                <a:cubicBezTo>
                  <a:pt x="704" y="640"/>
                  <a:pt x="761" y="626"/>
                  <a:pt x="819" y="621"/>
                </a:cubicBezTo>
                <a:cubicBezTo>
                  <a:pt x="844" y="597"/>
                  <a:pt x="870" y="586"/>
                  <a:pt x="902" y="576"/>
                </a:cubicBezTo>
                <a:cubicBezTo>
                  <a:pt x="905" y="567"/>
                  <a:pt x="904" y="555"/>
                  <a:pt x="911" y="548"/>
                </a:cubicBezTo>
                <a:cubicBezTo>
                  <a:pt x="919" y="539"/>
                  <a:pt x="978" y="507"/>
                  <a:pt x="993" y="502"/>
                </a:cubicBezTo>
                <a:cubicBezTo>
                  <a:pt x="1023" y="472"/>
                  <a:pt x="1045" y="442"/>
                  <a:pt x="1084" y="429"/>
                </a:cubicBezTo>
                <a:cubicBezTo>
                  <a:pt x="1127" y="388"/>
                  <a:pt x="1081" y="365"/>
                  <a:pt x="1057" y="329"/>
                </a:cubicBezTo>
                <a:cubicBezTo>
                  <a:pt x="1045" y="293"/>
                  <a:pt x="1031" y="256"/>
                  <a:pt x="1020" y="219"/>
                </a:cubicBezTo>
                <a:cubicBezTo>
                  <a:pt x="1019" y="216"/>
                  <a:pt x="1007" y="162"/>
                  <a:pt x="1002" y="155"/>
                </a:cubicBezTo>
                <a:cubicBezTo>
                  <a:pt x="995" y="147"/>
                  <a:pt x="984" y="143"/>
                  <a:pt x="975" y="137"/>
                </a:cubicBezTo>
                <a:cubicBezTo>
                  <a:pt x="972" y="146"/>
                  <a:pt x="975" y="165"/>
                  <a:pt x="966" y="164"/>
                </a:cubicBezTo>
                <a:cubicBezTo>
                  <a:pt x="944" y="161"/>
                  <a:pt x="911" y="128"/>
                  <a:pt x="911" y="128"/>
                </a:cubicBezTo>
                <a:cubicBezTo>
                  <a:pt x="905" y="75"/>
                  <a:pt x="919" y="18"/>
                  <a:pt x="865" y="0"/>
                </a:cubicBezTo>
                <a:cubicBezTo>
                  <a:pt x="794" y="24"/>
                  <a:pt x="883" y="0"/>
                  <a:pt x="810" y="0"/>
                </a:cubicBezTo>
                <a:cubicBezTo>
                  <a:pt x="788" y="0"/>
                  <a:pt x="767" y="12"/>
                  <a:pt x="746" y="18"/>
                </a:cubicBezTo>
                <a:cubicBezTo>
                  <a:pt x="736" y="21"/>
                  <a:pt x="683" y="39"/>
                  <a:pt x="664" y="45"/>
                </a:cubicBezTo>
                <a:cubicBezTo>
                  <a:pt x="641" y="53"/>
                  <a:pt x="623" y="74"/>
                  <a:pt x="600" y="82"/>
                </a:cubicBezTo>
                <a:cubicBezTo>
                  <a:pt x="584" y="87"/>
                  <a:pt x="479" y="99"/>
                  <a:pt x="472" y="100"/>
                </a:cubicBezTo>
                <a:cubicBezTo>
                  <a:pt x="412" y="119"/>
                  <a:pt x="349" y="126"/>
                  <a:pt x="289" y="146"/>
                </a:cubicBezTo>
                <a:cubicBezTo>
                  <a:pt x="280" y="143"/>
                  <a:pt x="271" y="135"/>
                  <a:pt x="262" y="137"/>
                </a:cubicBezTo>
                <a:cubicBezTo>
                  <a:pt x="247" y="140"/>
                  <a:pt x="233" y="176"/>
                  <a:pt x="225" y="182"/>
                </a:cubicBezTo>
                <a:cubicBezTo>
                  <a:pt x="218" y="188"/>
                  <a:pt x="207" y="189"/>
                  <a:pt x="198" y="192"/>
                </a:cubicBezTo>
                <a:cubicBezTo>
                  <a:pt x="161" y="228"/>
                  <a:pt x="157" y="219"/>
                  <a:pt x="207" y="219"/>
                </a:cubicBezTo>
                <a:close/>
              </a:path>
            </a:pathLst>
          </a:cu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2438280"/>
            <a:ext cx="1371600" cy="1371600"/>
          </a:xfrm>
          <a:custGeom>
            <a:avLst/>
            <a:gdLst/>
            <a:ahLst/>
            <a:rect l="l" t="t" r="r" b="b"/>
            <a:pathLst>
              <a:path w="864" h="864">
                <a:moveTo>
                  <a:pt x="46" y="286"/>
                </a:moveTo>
                <a:cubicBezTo>
                  <a:pt x="109" y="244"/>
                  <a:pt x="136" y="245"/>
                  <a:pt x="201" y="213"/>
                </a:cubicBezTo>
                <a:cubicBezTo>
                  <a:pt x="260" y="184"/>
                  <a:pt x="330" y="157"/>
                  <a:pt x="384" y="130"/>
                </a:cubicBezTo>
                <a:lnTo>
                  <a:pt x="624" y="0"/>
                </a:lnTo>
                <a:lnTo>
                  <a:pt x="720" y="288"/>
                </a:lnTo>
                <a:lnTo>
                  <a:pt x="864" y="384"/>
                </a:lnTo>
                <a:lnTo>
                  <a:pt x="480" y="864"/>
                </a:lnTo>
                <a:lnTo>
                  <a:pt x="192" y="576"/>
                </a:lnTo>
                <a:lnTo>
                  <a:pt x="0" y="336"/>
                </a:lnTo>
                <a:lnTo>
                  <a:pt x="46" y="286"/>
                </a:lnTo>
                <a:close/>
              </a:path>
            </a:pathLst>
          </a:cu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562360" y="2286000"/>
            <a:ext cx="2057400" cy="7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1905120"/>
            <a:ext cx="1447560" cy="609480"/>
          </a:xfrm>
          <a:custGeom>
            <a:avLst/>
            <a:gdLst/>
            <a:ahLst/>
            <a:rect l="l" t="t" r="r" b="b"/>
            <a:pathLst>
              <a:path w="912" h="384">
                <a:moveTo>
                  <a:pt x="0" y="240"/>
                </a:moveTo>
                <a:lnTo>
                  <a:pt x="288" y="240"/>
                </a:lnTo>
                <a:lnTo>
                  <a:pt x="624" y="96"/>
                </a:lnTo>
                <a:lnTo>
                  <a:pt x="864" y="0"/>
                </a:lnTo>
                <a:lnTo>
                  <a:pt x="912" y="192"/>
                </a:lnTo>
                <a:cubicBezTo>
                  <a:pt x="652" y="257"/>
                  <a:pt x="795" y="255"/>
                  <a:pt x="681" y="229"/>
                </a:cubicBezTo>
                <a:cubicBezTo>
                  <a:pt x="678" y="228"/>
                  <a:pt x="675" y="229"/>
                  <a:pt x="672" y="229"/>
                </a:cubicBezTo>
                <a:cubicBezTo>
                  <a:pt x="655" y="233"/>
                  <a:pt x="597" y="256"/>
                  <a:pt x="581" y="256"/>
                </a:cubicBezTo>
                <a:lnTo>
                  <a:pt x="432" y="288"/>
                </a:lnTo>
                <a:lnTo>
                  <a:pt x="336" y="384"/>
                </a:lnTo>
                <a:cubicBezTo>
                  <a:pt x="291" y="375"/>
                  <a:pt x="130" y="329"/>
                  <a:pt x="41" y="329"/>
                </a:cubicBezTo>
                <a:lnTo>
                  <a:pt x="0" y="240"/>
                </a:lnTo>
                <a:close/>
              </a:path>
            </a:pathLst>
          </a:custGeom>
          <a:solidFill>
            <a:srgbClr val="ff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410080" y="914400"/>
            <a:ext cx="144792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27432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2895480"/>
            <a:ext cx="6094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909720"/>
            <a:ext cx="1143000" cy="1071360"/>
          </a:xfrm>
          <a:custGeom>
            <a:avLst/>
            <a:gdLst/>
            <a:ahLst/>
            <a:rect l="l" t="t" r="r" b="b"/>
            <a:pathLst>
              <a:path w="720" h="675">
                <a:moveTo>
                  <a:pt x="240" y="3"/>
                </a:moveTo>
                <a:lnTo>
                  <a:pt x="0" y="147"/>
                </a:lnTo>
                <a:lnTo>
                  <a:pt x="240" y="291"/>
                </a:lnTo>
                <a:lnTo>
                  <a:pt x="432" y="579"/>
                </a:lnTo>
                <a:lnTo>
                  <a:pt x="576" y="675"/>
                </a:lnTo>
                <a:lnTo>
                  <a:pt x="720" y="387"/>
                </a:lnTo>
                <a:lnTo>
                  <a:pt x="672" y="99"/>
                </a:lnTo>
                <a:cubicBezTo>
                  <a:pt x="592" y="67"/>
                  <a:pt x="514" y="29"/>
                  <a:pt x="432" y="3"/>
                </a:cubicBezTo>
                <a:cubicBezTo>
                  <a:pt x="423" y="0"/>
                  <a:pt x="405" y="14"/>
                  <a:pt x="405" y="14"/>
                </a:cubicBezTo>
                <a:lnTo>
                  <a:pt x="288" y="51"/>
                </a:lnTo>
                <a:lnTo>
                  <a:pt x="240" y="3"/>
                </a:lnTo>
                <a:close/>
              </a:path>
            </a:pathLst>
          </a:custGeom>
          <a:solidFill>
            <a:srgbClr val="ff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5181120"/>
            <a:ext cx="2895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teral Skull</a:t>
            </a:r>
            <a:endParaRPr b="1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371600" y="1295280"/>
            <a:ext cx="342900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666880" y="3276360"/>
            <a:ext cx="121932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86200" y="3047760"/>
            <a:ext cx="60948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21000" y="2641680"/>
            <a:ext cx="245880" cy="444600"/>
          </a:xfrm>
          <a:custGeom>
            <a:avLst/>
            <a:gdLst/>
            <a:ahLst/>
            <a:rect l="l" t="t" r="r" b="b"/>
            <a:pathLst>
              <a:path w="155" h="280">
                <a:moveTo>
                  <a:pt x="27" y="0"/>
                </a:moveTo>
                <a:cubicBezTo>
                  <a:pt x="19" y="58"/>
                  <a:pt x="14" y="117"/>
                  <a:pt x="0" y="174"/>
                </a:cubicBezTo>
                <a:cubicBezTo>
                  <a:pt x="17" y="280"/>
                  <a:pt x="35" y="247"/>
                  <a:pt x="155" y="238"/>
                </a:cubicBezTo>
                <a:cubicBezTo>
                  <a:pt x="152" y="214"/>
                  <a:pt x="153" y="189"/>
                  <a:pt x="146" y="165"/>
                </a:cubicBezTo>
                <a:cubicBezTo>
                  <a:pt x="141" y="148"/>
                  <a:pt x="101" y="116"/>
                  <a:pt x="91" y="101"/>
                </a:cubicBezTo>
                <a:cubicBezTo>
                  <a:pt x="78" y="59"/>
                  <a:pt x="51" y="36"/>
                  <a:pt x="27" y="0"/>
                </a:cubicBez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2:51:08Z</dcterms:created>
  <dc:creator> Rose Marie Chute</dc:creator>
  <dc:description/>
  <dc:language>en-US</dc:language>
  <cp:lastModifiedBy>jayoig</cp:lastModifiedBy>
  <dcterms:modified xsi:type="dcterms:W3CDTF">2008-11-13T12:22:12Z</dcterms:modified>
  <cp:revision>36</cp:revision>
  <dc:subject/>
  <dc:title>Skull Tutorial</dc:title>
</cp:coreProperties>
</file>